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8.png" ContentType="image/png"/>
  <Override PartName="/ppt/media/image1.wmf" ContentType="image/x-wmf"/>
  <Override PartName="/ppt/media/image2.png" ContentType="image/png"/>
  <Override PartName="/ppt/media/hdphoto1.wdp" ContentType="image/vnd.ms-photo"/>
  <Override PartName="/ppt/media/image1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dt" idx="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 type="sldNum" idx="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9DE9588-1027-496E-ACB2-C363F57B47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Num" idx="32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AAD85A9-B8C6-42BC-B5CF-E19CB09BAED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sldNum" idx="33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0E0CC8A-F569-4270-AECF-BADE12AA0D1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sldNum" idx="34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A2895D5-91AA-4D9B-9679-EF1DB22ADAF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35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4E221C2-529D-4615-BBAB-B12E095F39E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20520"/>
            <a:ext cx="9143640" cy="123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24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14800"/>
            <a:ext cx="822924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20520"/>
            <a:ext cx="9143640" cy="123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1480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1480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20520"/>
            <a:ext cx="9143640" cy="123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1480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1480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1480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ADF5A-E51D-4ACD-8084-4045E30623B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20520"/>
            <a:ext cx="9143640" cy="123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24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F4ABE-D410-4D3E-94AF-B0F8958A881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20520"/>
            <a:ext cx="9143640" cy="123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24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3150F-E6D4-4B99-8E6A-2C87004B54A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20520"/>
            <a:ext cx="9143640" cy="123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7A257-ADD7-4B05-AF1C-DEF2FD44ABC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20520"/>
            <a:ext cx="9143640" cy="123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0BB95-EA7E-4C26-ADA5-F06B98C7AFF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0" y="-20520"/>
            <a:ext cx="9143640" cy="57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4583E-5AFA-44BC-A473-82096EA860F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20520"/>
            <a:ext cx="9143640" cy="123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1480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60A91-CE61-4788-9441-6AAAD6E52E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20520"/>
            <a:ext cx="9143640" cy="123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24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20520"/>
            <a:ext cx="9143640" cy="123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1480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4106F-B418-46C1-A252-B014665796B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20520"/>
            <a:ext cx="9143640" cy="123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14800"/>
            <a:ext cx="822924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205C3-A151-4C07-8EE7-E08EA9598ED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20520"/>
            <a:ext cx="9143640" cy="123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24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14800"/>
            <a:ext cx="822924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18A3D-465F-4ECC-BF74-C7E25F0E4B0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20520"/>
            <a:ext cx="9143640" cy="123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1480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1480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468F1-6A4A-4BDA-AE93-BC790608981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20520"/>
            <a:ext cx="9143640" cy="123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1480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1480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1480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211CB-B083-44D7-BD8B-C8F7ED6D807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8B4F8-0380-45C0-9AA2-68EAB56874D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20520"/>
            <a:ext cx="9143640" cy="123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24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7F437-3AEC-4CDC-BF81-263A7E185D0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20520"/>
            <a:ext cx="9143640" cy="123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24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CA752-4035-402C-874F-5E6076B3B21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20520"/>
            <a:ext cx="9143640" cy="123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95973-D83A-4EEA-89EF-95D6CCAE0ED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20520"/>
            <a:ext cx="9143640" cy="123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C0F04-30C4-4E87-987C-0EA4CFD055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20520"/>
            <a:ext cx="9143640" cy="123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24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0" y="-20520"/>
            <a:ext cx="9143640" cy="57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1032D-FA5E-49C6-A4CE-95D62775327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20520"/>
            <a:ext cx="9143640" cy="123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1480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6F7B7-4472-490F-B1A4-7A6F1913ED0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20520"/>
            <a:ext cx="9143640" cy="123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1480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8F20B-FA41-4F37-8AE1-E3AA7299604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20520"/>
            <a:ext cx="9143640" cy="123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14800"/>
            <a:ext cx="822924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15520-BD2C-463D-9275-685AE162CB0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20520"/>
            <a:ext cx="9143640" cy="123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24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14800"/>
            <a:ext cx="822924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2978E-1FF8-4C71-A420-E4BD9B9A1E2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20520"/>
            <a:ext cx="9143640" cy="123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1480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1480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63E13-9587-42F8-B0D1-305B8AF30B8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20520"/>
            <a:ext cx="9143640" cy="123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1480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1480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1480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EDFCD-F2FC-4E51-AEDC-F9DCC2497C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20520"/>
            <a:ext cx="9143640" cy="123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20520"/>
            <a:ext cx="9143640" cy="123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-20520"/>
            <a:ext cx="9143640" cy="57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20520"/>
            <a:ext cx="9143640" cy="123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1480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20520"/>
            <a:ext cx="9143640" cy="123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1480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20520"/>
            <a:ext cx="9143640" cy="123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14800"/>
            <a:ext cx="822924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microsoft.com/office/2007/relationships/hdphoto" Target="../media/hdphoto1.wdp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bfc"/>
            </a:gs>
            <a:gs pos="100000">
              <a:srgbClr val="aedae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Box 6"/>
          <p:cNvSpPr/>
          <p:nvPr/>
        </p:nvSpPr>
        <p:spPr>
          <a:xfrm>
            <a:off x="304920" y="6504840"/>
            <a:ext cx="44193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12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© 2015 McGraw-Hill Education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5" descr=""/>
          <p:cNvPicPr/>
          <p:nvPr/>
        </p:nvPicPr>
        <p:blipFill>
          <a:blip r:embed="rId2"/>
          <a:stretch/>
        </p:blipFill>
        <p:spPr>
          <a:xfrm>
            <a:off x="0" y="5627160"/>
            <a:ext cx="9143640" cy="1231560"/>
          </a:xfrm>
          <a:prstGeom prst="rect">
            <a:avLst/>
          </a:prstGeom>
          <a:ln w="0">
            <a:noFill/>
          </a:ln>
        </p:spPr>
      </p:pic>
      <p:sp>
        <p:nvSpPr>
          <p:cNvPr id="2" name="TextBox 14"/>
          <p:cNvSpPr/>
          <p:nvPr/>
        </p:nvSpPr>
        <p:spPr>
          <a:xfrm>
            <a:off x="5181480" y="6428520"/>
            <a:ext cx="38858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12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© 2015 McGraw-Hill Education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" descr=""/>
          <p:cNvPicPr/>
          <p:nvPr/>
        </p:nvPicPr>
        <p:blipFill>
          <a:blip r:embed="rId3">
            <a:extLst>
              <a:ext uri="{BEBA8EAE-BF5A-486C-A8C5-ECC9F3942E4B}">
                <a14:imgProps xmlns:a14="http://schemas.microsoft.com/office/drawing/2010/main">
                  <a14:imgLayer r:embed="rId4">
                    <a14:imgEffect>
                      <a14:sharpenSoften amount="25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33120" y="32400"/>
            <a:ext cx="4650120" cy="2468520"/>
          </a:xfrm>
          <a:prstGeom prst="rect">
            <a:avLst/>
          </a:prstGeom>
          <a:ln cap="sq" w="38100">
            <a:solidFill>
              <a:srgbClr val="4f81bd">
                <a:lumMod val="75000"/>
              </a:srgbClr>
            </a:solidFill>
            <a:miter/>
          </a:ln>
          <a:effectLst>
            <a:outerShdw algn="tl" blurRad="50760" dir="2700000" dist="37674" rotWithShape="0">
              <a:srgbClr val="000000">
                <a:alpha val="43000"/>
              </a:srgbClr>
            </a:outerShdw>
          </a:effectLst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4145400"/>
            <a:ext cx="736920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293071"/>
                </a:solidFill>
                <a:latin typeface="Arial"/>
              </a:rPr>
              <a:t>Click to edit Master title sty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TextBox 4"/>
          <p:cNvSpPr/>
          <p:nvPr/>
        </p:nvSpPr>
        <p:spPr>
          <a:xfrm>
            <a:off x="147600" y="6377400"/>
            <a:ext cx="46526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Frederick S. Hillier      Gerald J. Liebe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6"/>
          <p:cNvSpPr/>
          <p:nvPr/>
        </p:nvSpPr>
        <p:spPr>
          <a:xfrm>
            <a:off x="304920" y="6504840"/>
            <a:ext cx="44193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  <a:ea typeface="ＭＳ Ｐゴシック"/>
              </a:rPr>
              <a:t>© 2015 McGraw-Hill Education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"/>
          <p:cNvPicPr/>
          <p:nvPr/>
        </p:nvPicPr>
        <p:blipFill>
          <a:blip r:embed="rId2"/>
          <a:stretch/>
        </p:blipFill>
        <p:spPr>
          <a:xfrm>
            <a:off x="0" y="-31680"/>
            <a:ext cx="9143640" cy="1231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20520"/>
            <a:ext cx="9143640" cy="1231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rmAutofit/>
          </a:bodyPr>
          <a:p>
            <a:pPr marL="22536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240" cy="5105160"/>
          </a:xfrm>
          <a:prstGeom prst="rect">
            <a:avLst/>
          </a:prstGeom>
          <a:noFill/>
          <a:ln w="7632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le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1"/>
          </p:nvPr>
        </p:nvSpPr>
        <p:spPr>
          <a:xfrm>
            <a:off x="655308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Book Antiqu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8D26925-40C3-44CF-B486-E722CCCBD807}" type="slidenum">
              <a:rPr b="0" lang="en-US" sz="1200" spc="-1" strike="noStrike">
                <a:solidFill>
                  <a:srgbClr val="000000"/>
                </a:solidFill>
                <a:latin typeface="Book Antiqua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Straight Connector 7"/>
          <p:cNvCxnSpPr/>
          <p:nvPr/>
        </p:nvCxnSpPr>
        <p:spPr>
          <a:xfrm>
            <a:off x="0" y="6858000"/>
            <a:ext cx="9144360" cy="36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cxnSp>
        <p:nvCxnSpPr>
          <p:cNvPr id="49" name="Straight Connector 9"/>
          <p:cNvCxnSpPr/>
          <p:nvPr/>
        </p:nvCxnSpPr>
        <p:spPr>
          <a:xfrm>
            <a:off x="0" y="1218960"/>
            <a:ext cx="9144360" cy="360"/>
          </a:xfrm>
          <a:prstGeom prst="straightConnector1">
            <a:avLst/>
          </a:prstGeom>
          <a:ln w="38100">
            <a:solidFill>
              <a:srgbClr val="000000"/>
            </a:solidFill>
            <a:round/>
          </a:ln>
        </p:spPr>
      </p:cxnSp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0" y="1238400"/>
            <a:ext cx="9143640" cy="1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6"/>
          <p:cNvSpPr/>
          <p:nvPr/>
        </p:nvSpPr>
        <p:spPr>
          <a:xfrm>
            <a:off x="304920" y="6504840"/>
            <a:ext cx="44193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  <a:ea typeface="ＭＳ Ｐゴシック"/>
              </a:rPr>
              <a:t>© 2015 McGraw-Hill Education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9" descr=""/>
          <p:cNvPicPr/>
          <p:nvPr/>
        </p:nvPicPr>
        <p:blipFill>
          <a:blip r:embed="rId2"/>
          <a:stretch/>
        </p:blipFill>
        <p:spPr>
          <a:xfrm>
            <a:off x="0" y="-31680"/>
            <a:ext cx="9143640" cy="12315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sldNum" idx="2"/>
          </p:nvPr>
        </p:nvSpPr>
        <p:spPr>
          <a:xfrm>
            <a:off x="655308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Book Antiqu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A01F8A4-3BF3-4BA1-8681-4E094F0B1389}" type="slidenum">
              <a:rPr b="0" lang="en-US" sz="1200" spc="-1" strike="noStrike">
                <a:solidFill>
                  <a:srgbClr val="000000"/>
                </a:solidFill>
                <a:latin typeface="Book Antiqua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Straight Connector 7"/>
          <p:cNvCxnSpPr/>
          <p:nvPr/>
        </p:nvCxnSpPr>
        <p:spPr>
          <a:xfrm>
            <a:off x="0" y="6858000"/>
            <a:ext cx="9144360" cy="36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1231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rmAutofit/>
          </a:bodyPr>
          <a:p>
            <a:pPr marL="22536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Straight Connector 8"/>
          <p:cNvCxnSpPr/>
          <p:nvPr/>
        </p:nvCxnSpPr>
        <p:spPr>
          <a:xfrm>
            <a:off x="0" y="1218960"/>
            <a:ext cx="9144360" cy="360"/>
          </a:xfrm>
          <a:prstGeom prst="straightConnector1">
            <a:avLst/>
          </a:prstGeom>
          <a:ln w="38100">
            <a:solidFill>
              <a:srgbClr val="000000"/>
            </a:solidFill>
            <a:round/>
          </a:ln>
        </p:spPr>
      </p:cxnSp>
      <p:pic>
        <p:nvPicPr>
          <p:cNvPr id="93" name="Picture 2" descr=""/>
          <p:cNvPicPr/>
          <p:nvPr/>
        </p:nvPicPr>
        <p:blipFill>
          <a:blip r:embed="rId3"/>
          <a:stretch/>
        </p:blipFill>
        <p:spPr>
          <a:xfrm>
            <a:off x="0" y="1238400"/>
            <a:ext cx="9143640" cy="1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905120" y="2970000"/>
            <a:ext cx="5257440" cy="914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0" lang="en-US" sz="4000" spc="-1" strike="noStrike">
                <a:solidFill>
                  <a:srgbClr val="293071"/>
                </a:solidFill>
                <a:latin typeface="Arial Black"/>
              </a:rPr>
              <a:t>Chapter 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1905120" y="3886200"/>
            <a:ext cx="700992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293071"/>
                </a:solidFill>
                <a:latin typeface="Arial"/>
              </a:rPr>
              <a:t>Dynamic Programm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-20520"/>
            <a:ext cx="9143640" cy="1231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marL="22536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Prototype Example for Dynamic Programm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240" cy="5105160"/>
          </a:xfrm>
          <a:prstGeom prst="rect">
            <a:avLst/>
          </a:prstGeom>
          <a:noFill/>
          <a:ln w="7632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three optimal solutions have a total cost of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Num" idx="14"/>
          </p:nvPr>
        </p:nvSpPr>
        <p:spPr>
          <a:xfrm>
            <a:off x="655308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Book Antiqu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A261FC7-B3E0-4E1F-8A0B-636C12590041}" type="slidenum">
              <a:rPr b="0" lang="en-US" sz="1200" spc="-1" strike="noStrike">
                <a:solidFill>
                  <a:srgbClr val="000000"/>
                </a:solidFill>
                <a:latin typeface="Book Antiqua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512280" y="2438280"/>
            <a:ext cx="8262720" cy="39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240" cy="5105160"/>
          </a:xfrm>
          <a:prstGeom prst="rect">
            <a:avLst/>
          </a:prstGeom>
          <a:noFill/>
          <a:ln w="7632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agecoach problem is a literal proto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a physical interpretation of an abstrac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atures of dynamic programming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 can be divided into stages with a policy decision required at each s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tage has a number of states associated with the beginning of the s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0" y="-20520"/>
            <a:ext cx="9143640" cy="1231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marL="22536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1.2 Characteristics of Dynamic Programming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73AB9-CD59-4D83-B998-5421FDBCBFC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240" cy="5105160"/>
          </a:xfrm>
          <a:prstGeom prst="rect">
            <a:avLst/>
          </a:prstGeom>
          <a:noFill/>
          <a:ln w="7632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atures (cont’d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olicy decision at each stage transforms the current state into a state associated with the beginning of the next s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 procedure designed to find an optimal policy for the overall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current state, an optimal policy for the remaining stages is independent of the policy decisions of previous s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0" y="-20520"/>
            <a:ext cx="9143640" cy="1231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marL="22536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racteristics of Dynamic Programming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F6CE1-FC9C-424D-ABD2-D82E87E388F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240" cy="5105160"/>
          </a:xfrm>
          <a:prstGeom prst="rect">
            <a:avLst/>
          </a:prstGeom>
          <a:noFill/>
          <a:ln w="7632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atures (cont’d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 procedure begins by finding the optimal policy for the last s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ecursive relationship can be defined that identifies the optimal policy for stag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given the optimal policy for stag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 recursive relationship, the solution procedure starts at the end and works back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0" y="-20520"/>
            <a:ext cx="9143640" cy="1231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marL="22536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racteristics of Dynamic Programming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4D978-76E6-48A2-8B0C-C3553D80B40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-20520"/>
            <a:ext cx="9143640" cy="1231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marL="22536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1.3 Deterministic Dynamic Programm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240" cy="5105160"/>
          </a:xfrm>
          <a:prstGeom prst="rect">
            <a:avLst/>
          </a:prstGeom>
          <a:noFill/>
          <a:ln w="7632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istic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te at the next stage is completely determined by the current stage and the policy decision at that s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sldNum" idx="15"/>
          </p:nvPr>
        </p:nvSpPr>
        <p:spPr>
          <a:xfrm>
            <a:off x="655308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Book Antiqu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B527C2B-16A0-492C-8082-1100EFB9F4FC}" type="slidenum">
              <a:rPr b="0" lang="en-US" sz="1200" spc="-1" strike="noStrike">
                <a:solidFill>
                  <a:srgbClr val="000000"/>
                </a:solidFill>
                <a:latin typeface="Book Antiqua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380880" y="3886200"/>
            <a:ext cx="8399160" cy="163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-20520"/>
            <a:ext cx="9143640" cy="1231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marL="22536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terministic Dynamic Programm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240" cy="5105160"/>
          </a:xfrm>
          <a:prstGeom prst="rect">
            <a:avLst/>
          </a:prstGeom>
          <a:noFill/>
          <a:ln w="7632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egorize dynamic programming by form of the objective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ize sum of contributions of the individual s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maximize a sum, or minimize a product of the t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e of the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rete or continuous state variable/state v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e of the decision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rete or contin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Num" idx="16"/>
          </p:nvPr>
        </p:nvSpPr>
        <p:spPr>
          <a:xfrm>
            <a:off x="655308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Book Antiqu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28E9CA9-5CC5-4C41-803E-BA48ACC73B37}" type="slidenum">
              <a:rPr b="0" lang="en-US" sz="1200" spc="-1" strike="noStrike">
                <a:solidFill>
                  <a:srgbClr val="000000"/>
                </a:solidFill>
                <a:latin typeface="Book Antiqua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-20520"/>
            <a:ext cx="9143640" cy="1231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marL="22536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terministic Dynamic Programm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240" cy="5105160"/>
          </a:xfrm>
          <a:prstGeom prst="rect">
            <a:avLst/>
          </a:prstGeom>
          <a:noFill/>
          <a:ln w="7632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: distributing medical teams to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: determine how many of five available medical teams to allocate to each of three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oal is to maximize teams’ effectiven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measured in terms of increased life expecta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 example solution in the text on Pages 446-45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sldNum" idx="17"/>
          </p:nvPr>
        </p:nvSpPr>
        <p:spPr>
          <a:xfrm>
            <a:off x="655308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Book Antiqu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3784FAB-39CA-46D3-A051-C6F90A0254DC}" type="slidenum">
              <a:rPr b="0" lang="en-US" sz="1200" spc="-1" strike="noStrike">
                <a:solidFill>
                  <a:srgbClr val="000000"/>
                </a:solidFill>
                <a:latin typeface="Book Antiqua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-20520"/>
            <a:ext cx="9143640" cy="1231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marL="22536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terministic Dynamic Programm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240" cy="5105160"/>
          </a:xfrm>
          <a:prstGeom prst="rect">
            <a:avLst/>
          </a:prstGeom>
          <a:noFill/>
          <a:ln w="7632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ion of effort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l teams example is of this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ces from linear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 assumptions of linear programming (proportionality, additivity, divisibility, and certainty) need not a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assumption needed is addi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: distributing scientists to research te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Pages 454-456 in the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sldNum" idx="18"/>
          </p:nvPr>
        </p:nvSpPr>
        <p:spPr>
          <a:xfrm>
            <a:off x="655308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Book Antiqu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BE0CE91-2AF9-450B-808C-FCB082082D1B}" type="slidenum">
              <a:rPr b="0" lang="en-US" sz="1200" spc="-1" strike="noStrike">
                <a:solidFill>
                  <a:srgbClr val="000000"/>
                </a:solidFill>
                <a:latin typeface="Book Antiqua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-20520"/>
            <a:ext cx="9143640" cy="1231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marL="22536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terministic Dynamic Programm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240" cy="5105160"/>
          </a:xfrm>
          <a:prstGeom prst="rect">
            <a:avLst/>
          </a:prstGeom>
          <a:noFill/>
          <a:ln w="7632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: scheduling employment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variable is continu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restricted to integer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Pages 456-462 in the text for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19"/>
          </p:nvPr>
        </p:nvSpPr>
        <p:spPr>
          <a:xfrm>
            <a:off x="655308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Book Antiqu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F508935-1319-4D81-BC7E-EF390026C533}" type="slidenum">
              <a:rPr b="0" lang="en-US" sz="1200" spc="-1" strike="noStrike">
                <a:solidFill>
                  <a:srgbClr val="000000"/>
                </a:solidFill>
                <a:latin typeface="Book Antiqua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-20520"/>
            <a:ext cx="9143640" cy="1231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marL="22536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1.4 Probabilistic Dynamic Programm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240" cy="5105160"/>
          </a:xfrm>
          <a:prstGeom prst="rect">
            <a:avLst/>
          </a:prstGeom>
          <a:noFill/>
          <a:ln w="7632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from deterministic dynamic progra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 state is not completely determined by state and policy decisions at the current s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ty distribution describes what the next state will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sion 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Figure 11.10 o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Num" idx="20"/>
          </p:nvPr>
        </p:nvSpPr>
        <p:spPr>
          <a:xfrm>
            <a:off x="655308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Book Antiqu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598C74E-4A2A-49FC-9F7F-05E26BD48E41}" type="slidenum">
              <a:rPr b="0" lang="en-US" sz="1200" spc="-1" strike="noStrike">
                <a:solidFill>
                  <a:srgbClr val="000000"/>
                </a:solidFill>
                <a:latin typeface="Book Antiqua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20520"/>
            <a:ext cx="9143640" cy="1231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marL="22536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1.1 A Prototype Example for Dynamic Programm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240" cy="5105160"/>
          </a:xfrm>
          <a:prstGeom prst="rect">
            <a:avLst/>
          </a:prstGeom>
          <a:noFill/>
          <a:ln w="7632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agecoach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thical fortune-seeker travels West by stagecoach to join the gold rush in the mid-190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rigin and destination is fix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options in choice of rou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urance policies on stagecoach rid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depended on perceived route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safest route by minimizing policy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sldNum" idx="6"/>
          </p:nvPr>
        </p:nvSpPr>
        <p:spPr>
          <a:xfrm>
            <a:off x="655308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Book Antiqu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6AAB64E-06D4-405A-8794-49CC783CC211}" type="slidenum">
              <a:rPr b="0" lang="en-US" sz="1200" spc="-1" strike="noStrike">
                <a:solidFill>
                  <a:srgbClr val="000000"/>
                </a:solidFill>
                <a:latin typeface="Book Antiqua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Num" idx="21"/>
          </p:nvPr>
        </p:nvSpPr>
        <p:spPr>
          <a:xfrm>
            <a:off x="655308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Book Antiqu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253F269-74AF-457F-A4E7-29177CB5F39B}" type="slidenum">
              <a:rPr b="0" lang="en-US" sz="1200" spc="-1" strike="noStrike">
                <a:solidFill>
                  <a:srgbClr val="000000"/>
                </a:solidFill>
                <a:latin typeface="Book Antiqua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1231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marL="22536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babilistic Dynamic Programm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8381520" cy="38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-20520"/>
            <a:ext cx="9143640" cy="1231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marL="22536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babilistic Dynamic Programm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240" cy="5105160"/>
          </a:xfrm>
          <a:prstGeom prst="rect">
            <a:avLst/>
          </a:prstGeom>
          <a:noFill/>
          <a:ln w="7632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eneral obj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ize the expected sum of the contributions from the individual s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 for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represents the minimum expected sum from stag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and policy decision at stag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ectiv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sldNum" idx="22"/>
          </p:nvPr>
        </p:nvSpPr>
        <p:spPr>
          <a:xfrm>
            <a:off x="655308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Book Antiqu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EC3FCF5-F056-4267-A82D-DD1C15D8B53F}" type="slidenum">
              <a:rPr b="0" lang="en-US" sz="1200" spc="-1" strike="noStrike">
                <a:solidFill>
                  <a:srgbClr val="000000"/>
                </a:solidFill>
                <a:latin typeface="Book Antiqua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-20520"/>
            <a:ext cx="9143640" cy="1231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marL="22536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babilistic Dynamic Programm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240" cy="5105160"/>
          </a:xfrm>
          <a:prstGeom prst="rect">
            <a:avLst/>
          </a:prstGeom>
          <a:noFill/>
          <a:ln w="7632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 for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: determining reject allow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same form as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Pages 463-465 in the text for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Num" idx="23"/>
          </p:nvPr>
        </p:nvSpPr>
        <p:spPr>
          <a:xfrm>
            <a:off x="655308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Book Antiqu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CECD134-B4E0-4315-8AE9-49E9289AAB38}" type="slidenum">
              <a:rPr b="0" lang="en-US" sz="1200" spc="-1" strike="noStrike">
                <a:solidFill>
                  <a:srgbClr val="000000"/>
                </a:solidFill>
                <a:latin typeface="Book Antiqua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1752480" y="2209680"/>
            <a:ext cx="4458600" cy="196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-20520"/>
            <a:ext cx="9143640" cy="1231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marL="22536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babilistic Dynamic Programm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240" cy="5105160"/>
          </a:xfrm>
          <a:prstGeom prst="rect">
            <a:avLst/>
          </a:prstGeom>
          <a:noFill/>
          <a:ln w="7632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: winning in Las Ve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stician has a procedure that she believes will win a popular Las Vegas g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7% chance of winning a given play of the g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agues bet that she will not have at least five chips after three plays of the g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she begins with three c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ing she is correct, determine optimal policy of how many chips to bet at each p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ing into account results of earlier pl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Num" idx="24"/>
          </p:nvPr>
        </p:nvSpPr>
        <p:spPr>
          <a:xfrm>
            <a:off x="655308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Book Antiqu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3EE864E-6205-47AD-B6B4-352B88183B06}" type="slidenum">
              <a:rPr b="0" lang="en-US" sz="1200" spc="-1" strike="noStrike">
                <a:solidFill>
                  <a:srgbClr val="000000"/>
                </a:solidFill>
                <a:latin typeface="Book Antiqua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-20520"/>
            <a:ext cx="9143640" cy="1231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marL="22536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babilistic Dynamic Programm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240" cy="5105160"/>
          </a:xfrm>
          <a:prstGeom prst="rect">
            <a:avLst/>
          </a:prstGeom>
          <a:noFill/>
          <a:ln w="7632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: maximize probability of winning her bet with her colleag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ynamic programming problem for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g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lay of game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1, 2, 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number of chips to bet at stag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number of chips in hand to begin stag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25"/>
          </p:nvPr>
        </p:nvSpPr>
        <p:spPr>
          <a:xfrm>
            <a:off x="655308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Book Antiqu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4D7C463-811C-4B5A-BB40-59FCE6267015}" type="slidenum">
              <a:rPr b="0" lang="en-US" sz="1200" spc="-1" strike="noStrike">
                <a:solidFill>
                  <a:srgbClr val="000000"/>
                </a:solidFill>
                <a:latin typeface="Book Antiqua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-20520"/>
            <a:ext cx="9143640" cy="1231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marL="22536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babilistic Dynamic Programm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240" cy="5105160"/>
          </a:xfrm>
          <a:prstGeom prst="rect">
            <a:avLst/>
          </a:prstGeom>
          <a:noFill/>
          <a:ln w="7632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 formulation (cont’d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sldNum" idx="26"/>
          </p:nvPr>
        </p:nvSpPr>
        <p:spPr>
          <a:xfrm>
            <a:off x="655308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Book Antiqu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799186C-9D54-490A-B810-B9F950FBF414}" type="slidenum">
              <a:rPr b="0" lang="en-US" sz="1200" spc="-1" strike="noStrike">
                <a:solidFill>
                  <a:srgbClr val="000000"/>
                </a:solidFill>
                <a:latin typeface="Book Antiqua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663120" y="2133720"/>
            <a:ext cx="7941240" cy="13856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"/>
          <p:cNvPicPr/>
          <p:nvPr/>
        </p:nvPicPr>
        <p:blipFill>
          <a:blip r:embed="rId2"/>
          <a:stretch/>
        </p:blipFill>
        <p:spPr>
          <a:xfrm>
            <a:off x="228600" y="3519360"/>
            <a:ext cx="881028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-20520"/>
            <a:ext cx="9143640" cy="1231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marL="22536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babilistic Dynamic Programm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240" cy="5105160"/>
          </a:xfrm>
          <a:prstGeom prst="rect">
            <a:avLst/>
          </a:prstGeom>
          <a:noFill/>
          <a:ln w="7632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sldNum" idx="27"/>
          </p:nvPr>
        </p:nvSpPr>
        <p:spPr>
          <a:xfrm>
            <a:off x="655308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Book Antiqu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E7A2EB5-3B0A-470C-A28F-FC0784715D52}" type="slidenum">
              <a:rPr b="0" lang="en-US" sz="1200" spc="-1" strike="noStrike">
                <a:solidFill>
                  <a:srgbClr val="000000"/>
                </a:solidFill>
                <a:latin typeface="Book Antiqua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2057400" y="2224800"/>
            <a:ext cx="4571640" cy="282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20520"/>
            <a:ext cx="9143640" cy="1231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marL="22536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babilistic Dynamic Programm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240" cy="5105160"/>
          </a:xfrm>
          <a:prstGeom prst="rect">
            <a:avLst/>
          </a:prstGeom>
          <a:noFill/>
          <a:ln w="7632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 (cont’d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sldNum" idx="28"/>
          </p:nvPr>
        </p:nvSpPr>
        <p:spPr>
          <a:xfrm>
            <a:off x="655308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Book Antiqu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121174F-0745-435E-BF52-1490AFE1CEEE}" type="slidenum">
              <a:rPr b="0" lang="en-US" sz="1200" spc="-1" strike="noStrike">
                <a:solidFill>
                  <a:srgbClr val="000000"/>
                </a:solidFill>
                <a:latin typeface="Book Antiqua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Picture 3" descr=""/>
          <p:cNvPicPr/>
          <p:nvPr/>
        </p:nvPicPr>
        <p:blipFill>
          <a:blip r:embed="rId1"/>
          <a:stretch/>
        </p:blipFill>
        <p:spPr>
          <a:xfrm>
            <a:off x="685800" y="2438280"/>
            <a:ext cx="783324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-20520"/>
            <a:ext cx="9143640" cy="1231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marL="22536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babilistic Dynamic Programm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240" cy="5105160"/>
          </a:xfrm>
          <a:prstGeom prst="rect">
            <a:avLst/>
          </a:prstGeom>
          <a:noFill/>
          <a:ln w="7632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 (cont’d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sldNum" idx="29"/>
          </p:nvPr>
        </p:nvSpPr>
        <p:spPr>
          <a:xfrm>
            <a:off x="655308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Book Antiqu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9EDA787-3642-4EC6-969C-313A28B3266B}" type="slidenum">
              <a:rPr b="0" lang="en-US" sz="1200" spc="-1" strike="noStrike">
                <a:solidFill>
                  <a:srgbClr val="000000"/>
                </a:solidFill>
                <a:latin typeface="Book Antiqua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380880" y="2608920"/>
            <a:ext cx="8403840" cy="19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-20520"/>
            <a:ext cx="9143640" cy="1231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marL="22536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babilistic Dynamic Programm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240" cy="5105160"/>
          </a:xfrm>
          <a:prstGeom prst="rect">
            <a:avLst/>
          </a:prstGeom>
          <a:noFill/>
          <a:ln w="7632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 (cont’d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tables, the optimal policy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stician has a 20/27 probability of winning the bet with her colleag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sldNum" idx="30"/>
          </p:nvPr>
        </p:nvSpPr>
        <p:spPr>
          <a:xfrm>
            <a:off x="655308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Book Antiqu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F734A52-9687-4933-A0D3-F97319F51A74}" type="slidenum">
              <a:rPr b="0" lang="en-US" sz="1200" spc="-1" strike="noStrike">
                <a:solidFill>
                  <a:srgbClr val="000000"/>
                </a:solidFill>
                <a:latin typeface="Book Antiqua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1"/>
          <a:stretch/>
        </p:blipFill>
        <p:spPr>
          <a:xfrm>
            <a:off x="533520" y="2666880"/>
            <a:ext cx="8282520" cy="193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-20520"/>
            <a:ext cx="9143640" cy="1231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marL="22536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Prototype Example for Dynamic Programm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240" cy="5105160"/>
          </a:xfrm>
          <a:prstGeom prst="rect">
            <a:avLst/>
          </a:prstGeom>
          <a:noFill/>
          <a:ln w="7632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rect solution: choose cheapest run offered by each successive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s A→B → F → I → J for a total cost of 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less expensive 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Num" idx="7"/>
          </p:nvPr>
        </p:nvSpPr>
        <p:spPr>
          <a:xfrm>
            <a:off x="655308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Book Antiqu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8CBBE0B-E8E6-4C6C-BBE1-67FED59663D3}" type="slidenum">
              <a:rPr b="0" lang="en-US" sz="1200" spc="-1" strike="noStrike">
                <a:solidFill>
                  <a:srgbClr val="000000"/>
                </a:solidFill>
                <a:latin typeface="Book Antiqua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1162080" y="3581280"/>
            <a:ext cx="6819480" cy="275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-20520"/>
            <a:ext cx="9143640" cy="1231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marL="22536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1.5 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81520" cy="5105160"/>
          </a:xfrm>
          <a:prstGeom prst="rect">
            <a:avLst/>
          </a:prstGeom>
          <a:noFill/>
          <a:ln w="7632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ynamic progra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ful technique for making a sequence of interrelated dec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forming a recursive relat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great computational savings for very large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hapter: covers dynamic programming with a finite number of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19 covers indefinite s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Num" idx="31"/>
          </p:nvPr>
        </p:nvSpPr>
        <p:spPr>
          <a:xfrm>
            <a:off x="655308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Book Antiqu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713C20E-F88B-471D-8B71-1AE6B850445D}" type="slidenum">
              <a:rPr b="0" lang="en-US" sz="1200" spc="-1" strike="noStrike">
                <a:solidFill>
                  <a:srgbClr val="000000"/>
                </a:solidFill>
                <a:latin typeface="Book Antiqua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-20520"/>
            <a:ext cx="9143640" cy="1231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marL="22536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Prototype Example for Dynamic Programm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240" cy="5105160"/>
          </a:xfrm>
          <a:prstGeom prst="rect">
            <a:avLst/>
          </a:prstGeom>
          <a:noFill/>
          <a:ln w="7632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al-and-error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time consuming for large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ynamic programming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s with a small portion of original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s optimal solution for this smaller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lly enlarges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s the current optimal solution from the preceding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Num" idx="8"/>
          </p:nvPr>
        </p:nvSpPr>
        <p:spPr>
          <a:xfrm>
            <a:off x="655308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Book Antiqu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A37C0AE-1CC1-4A9E-B80B-73DF8B1B1030}" type="slidenum">
              <a:rPr b="0" lang="en-US" sz="1200" spc="-1" strike="noStrike">
                <a:solidFill>
                  <a:srgbClr val="000000"/>
                </a:solidFill>
                <a:latin typeface="Book Antiqua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20520"/>
            <a:ext cx="9143640" cy="1231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marL="22536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Prototype Example for Dynamic Programm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240" cy="5105160"/>
          </a:xfrm>
          <a:prstGeom prst="rect">
            <a:avLst/>
          </a:prstGeom>
          <a:noFill/>
          <a:ln w="7632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gecoach problem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when fortune-seeker is only one stagecoach ride away from the dest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by one the number of stages remaining to complete the jour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 for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sion variable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e begins a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proceeds throug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ends a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Num" idx="9"/>
          </p:nvPr>
        </p:nvSpPr>
        <p:spPr>
          <a:xfrm>
            <a:off x="655308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Book Antiqu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CB034AC-C1EF-4FD7-ACB4-ECBB10C1A9E4}" type="slidenum">
              <a:rPr b="0" lang="en-US" sz="1200" spc="-1" strike="noStrike">
                <a:solidFill>
                  <a:srgbClr val="000000"/>
                </a:solidFill>
                <a:latin typeface="Book Antiqua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20520"/>
            <a:ext cx="9143640" cy="1231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marL="22536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Prototype Example for Dynamic Programm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433360" cy="5105160"/>
          </a:xfrm>
          <a:prstGeom prst="rect">
            <a:avLst/>
          </a:prstGeom>
          <a:noFill/>
          <a:ln w="7632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be the total cost of the overall policy for the remaining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tune-seeker is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ready to start stag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the immediate 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sx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tained by settin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 = 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j = 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Num" idx="10"/>
          </p:nvPr>
        </p:nvSpPr>
        <p:spPr>
          <a:xfrm>
            <a:off x="655308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Book Antiqu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E9CDC6A-9955-4005-8C65-2148FC974061}" type="slidenum">
              <a:rPr b="0" lang="en-US" sz="1200" spc="-1" strike="noStrike">
                <a:solidFill>
                  <a:srgbClr val="000000"/>
                </a:solidFill>
                <a:latin typeface="Book Antiqua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457200" y="4648320"/>
            <a:ext cx="8433360" cy="16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20520"/>
            <a:ext cx="9143640" cy="1231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marL="22536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Prototype Example for Dynamic Programm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240" cy="5105160"/>
          </a:xfrm>
          <a:prstGeom prst="rect">
            <a:avLst/>
          </a:prstGeom>
          <a:noFill/>
          <a:ln w="7632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ediate solution to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4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Num" idx="11"/>
          </p:nvPr>
        </p:nvSpPr>
        <p:spPr>
          <a:xfrm>
            <a:off x="655308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Book Antiqu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2CEC40B-C9A1-4501-A8F9-394EAD64BC0B}" type="slidenum">
              <a:rPr b="0" lang="en-US" sz="1200" spc="-1" strike="noStrike">
                <a:solidFill>
                  <a:srgbClr val="000000"/>
                </a:solidFill>
                <a:latin typeface="Book Antiqua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2541240" y="2057400"/>
            <a:ext cx="3063600" cy="16092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"/>
          <p:cNvPicPr/>
          <p:nvPr/>
        </p:nvPicPr>
        <p:blipFill>
          <a:blip r:embed="rId2"/>
          <a:stretch/>
        </p:blipFill>
        <p:spPr>
          <a:xfrm>
            <a:off x="1404360" y="4419720"/>
            <a:ext cx="6465600" cy="20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20520"/>
            <a:ext cx="9143640" cy="1231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marL="22536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Prototype Example for Dynamic Programm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240" cy="5105160"/>
          </a:xfrm>
          <a:prstGeom prst="rect">
            <a:avLst/>
          </a:prstGeom>
          <a:noFill/>
          <a:ln w="7632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2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Num" idx="12"/>
          </p:nvPr>
        </p:nvSpPr>
        <p:spPr>
          <a:xfrm>
            <a:off x="655308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Book Antiqu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A07C167-AC64-4EBE-B36B-E5B6D2F6F4DF}" type="slidenum">
              <a:rPr b="0" lang="en-US" sz="1200" spc="-1" strike="noStrike">
                <a:solidFill>
                  <a:srgbClr val="000000"/>
                </a:solidFill>
                <a:latin typeface="Book Antiqua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997560" y="2133720"/>
            <a:ext cx="7148160" cy="16851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2"/>
          <a:stretch/>
        </p:blipFill>
        <p:spPr>
          <a:xfrm>
            <a:off x="776160" y="4876920"/>
            <a:ext cx="759132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-20520"/>
            <a:ext cx="9143640" cy="1231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marL="22536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Prototype Example for Dynamic Programm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81520" cy="5105160"/>
          </a:xfrm>
          <a:prstGeom prst="rect">
            <a:avLst/>
          </a:prstGeom>
          <a:noFill/>
          <a:ln w="7632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uct optimal solution using the four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f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1 problem show that fortune-seeker should choose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cho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2, the result f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optimal solution: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→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→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→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chosen inst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71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→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→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→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→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→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→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→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→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13"/>
          </p:nvPr>
        </p:nvSpPr>
        <p:spPr>
          <a:xfrm>
            <a:off x="655308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Book Antiqu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77D352E-D6E5-412B-A4D3-20BF9CF05887}" type="slidenum">
              <a:rPr b="0" lang="en-US" sz="1200" spc="-1" strike="noStrike">
                <a:solidFill>
                  <a:srgbClr val="000000"/>
                </a:solidFill>
                <a:latin typeface="Book Antiqua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2_Office Theme">
  <a:themeElements>
    <a:clrScheme name="Custom 1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4bd97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2_Office Theme">
  <a:themeElements>
    <a:clrScheme name="Custom 1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4bd97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2_Office Theme">
  <a:themeElements>
    <a:clrScheme name="Custom 1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4bd97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4bd97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4</TotalTime>
  <Application>LibreOffice/7.4.7.2$Linux_X86_64 LibreOffice_project/40$Build-2</Application>
  <AppVersion>15.0000</AppVersion>
  <Words>1161</Words>
  <Paragraphs>19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ita Mitra</cp:lastModifiedBy>
  <dcterms:modified xsi:type="dcterms:W3CDTF">2014-05-29T02:03:17Z</dcterms:modified>
  <cp:revision>505</cp:revision>
  <dc:subject/>
  <dc:title>Dynamic Programm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4</vt:r8>
  </property>
  <property fmtid="{D5CDD505-2E9C-101B-9397-08002B2CF9AE}" pid="3" name="PresentationFormat">
    <vt:lpwstr>On-screen Show (4:3)</vt:lpwstr>
  </property>
  <property fmtid="{D5CDD505-2E9C-101B-9397-08002B2CF9AE}" pid="4" name="Slides">
    <vt:r8>30</vt:r8>
  </property>
</Properties>
</file>